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BA2-91D4-4701-8B5B-1B432D7F1D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2E04-B57A-4205-8A11-EEEDAF457E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F98-65E5-4041-83BB-79DE12B8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F12-87BF-495E-A31D-A0D2FF30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A9F-1824-4423-9DE1-EB7DFFAC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ABD-9C82-4664-912E-D4F9C66D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072-43C7-420E-ACCB-F33F1311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49E-61FC-4122-98C4-E3F7662B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A1A-127D-4CF3-967E-4C38BD2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A73-891B-467C-ACF1-7232F82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B77-4F01-4E4D-8A95-3607D90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0F2-82D6-4E27-9257-F0BC9DC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1DF-E3BD-4D3D-9FB9-1718FF0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501-9E81-4399-99A6-9DBAE52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DE2-17B8-4829-92EA-AAC45DCF3EF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dsumowani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704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Powodzenia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miętajcie, że pozycja w rankingu jest odzwierciedleniem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kuteczności obranej strate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macie kłopoty – może warto ją zmieni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D:\Data\awinniczuk\AppData\Local\Microsoft\Windows\Temporary Internet Files\Content.IE5\4VQMB90G\MC900434389[1].wmf"/>
          <p:cNvPicPr/>
          <p:nvPr/>
        </p:nvPicPr>
        <p:blipFill>
          <a:blip r:embed="rId1"/>
          <a:stretch/>
        </p:blipFill>
        <p:spPr>
          <a:xfrm>
            <a:off x="7812000" y="2708280"/>
            <a:ext cx="10242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anking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anking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 najbliższej rundy do gry zostanie wprowadzony ranking. Dzięki niemu będziecie mogli porównać swoje wyniki z innymi zespołami w klas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y jesteście na szczycie i zrobicie wszystko, żeby tam pozostać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 może zajmujecie ostatnie miejsce i trzeba wziąć się do p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nking pomoże szybko ocenić skuteczność i słuszność podejmowanych decyzj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jrzyjmy się co wpływa na pozycję w ranking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D:\Data\awinniczuk\AppData\Local\Microsoft\Windows\Temporary Internet Files\Content.IE5\KRKMH3WR\MC900441936[1].wmf"/>
          <p:cNvPicPr/>
          <p:nvPr/>
        </p:nvPicPr>
        <p:blipFill>
          <a:blip r:embed="rId1"/>
          <a:stretch/>
        </p:blipFill>
        <p:spPr>
          <a:xfrm>
            <a:off x="7093080" y="260280"/>
            <a:ext cx="13381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a 3"/>
          <p:cNvGrpSpPr/>
          <p:nvPr/>
        </p:nvGrpSpPr>
        <p:grpSpPr>
          <a:xfrm>
            <a:off x="324000" y="104760"/>
            <a:ext cx="8627760" cy="6356520"/>
            <a:chOff x="324000" y="104760"/>
            <a:chExt cx="8627760" cy="6356520"/>
          </a:xfrm>
        </p:grpSpPr>
        <p:cxnSp>
          <p:nvCxnSpPr>
            <p:cNvPr id="55" name="Łącznik prosty ze strzałką 4"/>
            <p:cNvCxnSpPr/>
            <p:nvPr/>
          </p:nvCxnSpPr>
          <p:spPr>
            <a:xfrm flipV="1">
              <a:off x="4187880" y="2829960"/>
              <a:ext cx="33660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" name="Łącznik prosty ze strzałką 5"/>
            <p:cNvCxnSpPr/>
            <p:nvPr/>
          </p:nvCxnSpPr>
          <p:spPr>
            <a:xfrm flipH="1" flipV="1">
              <a:off x="4863240" y="2829960"/>
              <a:ext cx="880200" cy="1384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" name="Łącznik prosty ze strzałką 6"/>
            <p:cNvCxnSpPr/>
            <p:nvPr/>
          </p:nvCxnSpPr>
          <p:spPr>
            <a:xfrm flipV="1">
              <a:off x="7283160" y="2829960"/>
              <a:ext cx="51804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" name="Łącznik prosty ze strzałką 7"/>
            <p:cNvCxnSpPr/>
            <p:nvPr/>
          </p:nvCxnSpPr>
          <p:spPr>
            <a:xfrm flipH="1" flipV="1">
              <a:off x="8071920" y="2829960"/>
              <a:ext cx="435600" cy="1384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Łącznik prosty ze strzałką 8"/>
            <p:cNvCxnSpPr/>
            <p:nvPr/>
          </p:nvCxnSpPr>
          <p:spPr>
            <a:xfrm flipV="1">
              <a:off x="999720" y="2829960"/>
              <a:ext cx="518040" cy="1384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0" name="Łącznik prosty ze strzałką 9"/>
            <p:cNvCxnSpPr/>
            <p:nvPr/>
          </p:nvCxnSpPr>
          <p:spPr>
            <a:xfrm flipH="1" flipV="1">
              <a:off x="1778760" y="2829960"/>
              <a:ext cx="9900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" name="Łącznik prosty ze strzałką 10"/>
            <p:cNvCxnSpPr/>
            <p:nvPr/>
          </p:nvCxnSpPr>
          <p:spPr>
            <a:xfrm flipH="1" flipV="1">
              <a:off x="2075760" y="2829960"/>
              <a:ext cx="78156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" name="Łącznik prosty ze strzałką 11"/>
            <p:cNvCxnSpPr/>
            <p:nvPr/>
          </p:nvCxnSpPr>
          <p:spPr>
            <a:xfrm flipH="1" flipV="1">
              <a:off x="5151240" y="805680"/>
              <a:ext cx="2384640" cy="139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" name="Łącznik prosty ze strzałką 12"/>
            <p:cNvCxnSpPr/>
            <p:nvPr/>
          </p:nvCxnSpPr>
          <p:spPr>
            <a:xfrm flipH="1" flipV="1">
              <a:off x="4720680" y="997920"/>
              <a:ext cx="1080" cy="1085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4" name="Prostokąt zaokrąglony 13"/>
            <p:cNvSpPr/>
            <p:nvPr/>
          </p:nvSpPr>
          <p:spPr>
            <a:xfrm>
              <a:off x="4054320" y="104760"/>
              <a:ext cx="116820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artość rankingu Wynik firmy/zespoł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rostokąt zaokrąglony 14"/>
            <p:cNvSpPr/>
            <p:nvPr/>
          </p:nvSpPr>
          <p:spPr>
            <a:xfrm>
              <a:off x="1297080" y="2020680"/>
              <a:ext cx="1101600" cy="8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ynik ekonomiczn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rostokąt zaokrąglony 15"/>
            <p:cNvSpPr/>
            <p:nvPr/>
          </p:nvSpPr>
          <p:spPr>
            <a:xfrm>
              <a:off x="7283520" y="2020680"/>
              <a:ext cx="1158840" cy="8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spółczynnik zrównoważonego rozwoj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rostokąt zaokrąglony 16"/>
            <p:cNvSpPr/>
            <p:nvPr/>
          </p:nvSpPr>
          <p:spPr>
            <a:xfrm>
              <a:off x="4125960" y="2020680"/>
              <a:ext cx="1168200" cy="8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spółczynnik satysfakcji interesariusz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rostokąt zaokrąglony 17"/>
            <p:cNvSpPr/>
            <p:nvPr/>
          </p:nvSpPr>
          <p:spPr>
            <a:xfrm>
              <a:off x="426960" y="4097520"/>
              <a:ext cx="952200" cy="82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Zyskowność firm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rostokąt zaokrąglony 18"/>
            <p:cNvSpPr/>
            <p:nvPr/>
          </p:nvSpPr>
          <p:spPr>
            <a:xfrm>
              <a:off x="1584360" y="4097520"/>
              <a:ext cx="904680" cy="82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skaźnik zadłużenia firm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rostokąt zaokrąglony 19"/>
            <p:cNvSpPr/>
            <p:nvPr/>
          </p:nvSpPr>
          <p:spPr>
            <a:xfrm>
              <a:off x="2690640" y="4097520"/>
              <a:ext cx="830160" cy="82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artość udział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rostokąt zaokrąglony 20"/>
            <p:cNvSpPr/>
            <p:nvPr/>
          </p:nvSpPr>
          <p:spPr>
            <a:xfrm>
              <a:off x="3992400" y="4097520"/>
              <a:ext cx="961920" cy="82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skaźnik satysfakcji </a:t>
              </a:r>
              <a:r>
                <a:rPr b="0" lang="pl-PL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acownikó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rostokąt zaokrąglony 21"/>
            <p:cNvSpPr/>
            <p:nvPr/>
          </p:nvSpPr>
          <p:spPr>
            <a:xfrm>
              <a:off x="5427720" y="4097520"/>
              <a:ext cx="852480" cy="82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skaźnik satysfakcji klien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rostokąt zaokrąglony 22"/>
            <p:cNvSpPr/>
            <p:nvPr/>
          </p:nvSpPr>
          <p:spPr>
            <a:xfrm>
              <a:off x="6811920" y="4097520"/>
              <a:ext cx="912600" cy="82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deks odpowiedzial</a:t>
              </a:r>
              <a:r>
                <a:rPr b="0" lang="pl-PL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- </a:t>
              </a:r>
              <a:r>
                <a:rPr b="0" lang="pl-PL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ego biznes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rostokąt zaokrąglony 23"/>
            <p:cNvSpPr/>
            <p:nvPr/>
          </p:nvSpPr>
          <p:spPr>
            <a:xfrm>
              <a:off x="8072280" y="4097520"/>
              <a:ext cx="879480" cy="82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deks ekologicznego biznes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Łącznik prosty ze strzałką 24"/>
            <p:cNvCxnSpPr/>
            <p:nvPr/>
          </p:nvCxnSpPr>
          <p:spPr>
            <a:xfrm flipV="1">
              <a:off x="1963800" y="805680"/>
              <a:ext cx="2162880" cy="12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6" name="Elipsa 25"/>
            <p:cNvSpPr/>
            <p:nvPr/>
          </p:nvSpPr>
          <p:spPr>
            <a:xfrm>
              <a:off x="3594240" y="593640"/>
              <a:ext cx="393480" cy="452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ipsa 26"/>
            <p:cNvSpPr/>
            <p:nvPr/>
          </p:nvSpPr>
          <p:spPr>
            <a:xfrm>
              <a:off x="2086560" y="277704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Elipsa 27"/>
            <p:cNvSpPr/>
            <p:nvPr/>
          </p:nvSpPr>
          <p:spPr>
            <a:xfrm>
              <a:off x="1123200" y="277704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Elipsa 28"/>
            <p:cNvSpPr/>
            <p:nvPr/>
          </p:nvSpPr>
          <p:spPr>
            <a:xfrm>
              <a:off x="5294880" y="6570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ipsa 29"/>
            <p:cNvSpPr/>
            <p:nvPr/>
          </p:nvSpPr>
          <p:spPr>
            <a:xfrm>
              <a:off x="4618440" y="100872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ipsa 30"/>
            <p:cNvSpPr/>
            <p:nvPr/>
          </p:nvSpPr>
          <p:spPr>
            <a:xfrm>
              <a:off x="4187880" y="277704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Elipsa 31"/>
            <p:cNvSpPr/>
            <p:nvPr/>
          </p:nvSpPr>
          <p:spPr>
            <a:xfrm>
              <a:off x="4905360" y="277704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ipsa 32"/>
            <p:cNvSpPr/>
            <p:nvPr/>
          </p:nvSpPr>
          <p:spPr>
            <a:xfrm>
              <a:off x="7436880" y="281952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Elipsa 33"/>
            <p:cNvSpPr/>
            <p:nvPr/>
          </p:nvSpPr>
          <p:spPr>
            <a:xfrm>
              <a:off x="8072280" y="284112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ipsa 34"/>
            <p:cNvSpPr/>
            <p:nvPr/>
          </p:nvSpPr>
          <p:spPr>
            <a:xfrm>
              <a:off x="1676880" y="283032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Dowolny kształt 35"/>
            <p:cNvSpPr/>
            <p:nvPr/>
          </p:nvSpPr>
          <p:spPr>
            <a:xfrm>
              <a:off x="1123920" y="4929480"/>
              <a:ext cx="3492360" cy="725400"/>
            </a:xfrm>
            <a:custGeom>
              <a:avLst/>
              <a:gdLst/>
              <a:ahLst/>
              <a:rect l="l" t="t" r="r" b="b"/>
              <a:pathLst>
                <a:path w="4314825" h="809625">
                  <a:moveTo>
                    <a:pt x="4314825" y="0"/>
                  </a:moveTo>
                  <a:cubicBezTo>
                    <a:pt x="3526631" y="404812"/>
                    <a:pt x="2738437" y="809625"/>
                    <a:pt x="2019300" y="809625"/>
                  </a:cubicBezTo>
                  <a:cubicBezTo>
                    <a:pt x="1300163" y="809625"/>
                    <a:pt x="650081" y="404812"/>
                    <a:pt x="0" y="0"/>
                  </a:cubicBezTo>
                </a:path>
              </a:pathLst>
            </a:custGeom>
            <a:noFill/>
            <a:ln w="25560">
              <a:solidFill>
                <a:srgbClr val="f79646"/>
              </a:solidFill>
              <a:round/>
              <a:tailEnd len="med" type="arrow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Dowolny kształt 36"/>
            <p:cNvSpPr/>
            <p:nvPr/>
          </p:nvSpPr>
          <p:spPr>
            <a:xfrm>
              <a:off x="785880" y="4929480"/>
              <a:ext cx="4751280" cy="1093680"/>
            </a:xfrm>
            <a:custGeom>
              <a:avLst/>
              <a:gdLst/>
              <a:ahLst/>
              <a:rect l="l" t="t" r="r" b="b"/>
              <a:pathLst>
                <a:path w="4314825" h="809625">
                  <a:moveTo>
                    <a:pt x="4314825" y="0"/>
                  </a:moveTo>
                  <a:cubicBezTo>
                    <a:pt x="3526631" y="404812"/>
                    <a:pt x="2738437" y="809625"/>
                    <a:pt x="2019300" y="809625"/>
                  </a:cubicBezTo>
                  <a:cubicBezTo>
                    <a:pt x="1300163" y="809625"/>
                    <a:pt x="650081" y="404812"/>
                    <a:pt x="0" y="0"/>
                  </a:cubicBezTo>
                </a:path>
              </a:pathLst>
            </a:custGeom>
            <a:noFill/>
            <a:ln w="25560">
              <a:solidFill>
                <a:srgbClr val="f79646"/>
              </a:solidFill>
              <a:round/>
              <a:tailEnd len="med" type="arrow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Dowolny kształt 37"/>
            <p:cNvSpPr/>
            <p:nvPr/>
          </p:nvSpPr>
          <p:spPr>
            <a:xfrm>
              <a:off x="1246320" y="4918320"/>
              <a:ext cx="1750680" cy="393480"/>
            </a:xfrm>
            <a:custGeom>
              <a:avLst/>
              <a:gdLst/>
              <a:ahLst/>
              <a:rect l="l" t="t" r="r" b="b"/>
              <a:pathLst>
                <a:path w="2028825" h="438158">
                  <a:moveTo>
                    <a:pt x="0" y="0"/>
                  </a:moveTo>
                  <a:cubicBezTo>
                    <a:pt x="316706" y="218281"/>
                    <a:pt x="633413" y="436563"/>
                    <a:pt x="971550" y="438150"/>
                  </a:cubicBezTo>
                  <a:cubicBezTo>
                    <a:pt x="1309687" y="439737"/>
                    <a:pt x="1669256" y="224631"/>
                    <a:pt x="2028825" y="9525"/>
                  </a:cubicBezTo>
                </a:path>
              </a:pathLst>
            </a:custGeom>
            <a:noFill/>
            <a:ln w="25560">
              <a:solidFill>
                <a:srgbClr val="385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Dowolny kształt 38"/>
            <p:cNvSpPr/>
            <p:nvPr/>
          </p:nvSpPr>
          <p:spPr>
            <a:xfrm>
              <a:off x="324000" y="4918320"/>
              <a:ext cx="8132760" cy="1542960"/>
            </a:xfrm>
            <a:custGeom>
              <a:avLst/>
              <a:gdLst/>
              <a:ahLst/>
              <a:rect l="l" t="t" r="r" b="b"/>
              <a:pathLst>
                <a:path w="9422991" h="1720097">
                  <a:moveTo>
                    <a:pt x="9422991" y="19050"/>
                  </a:moveTo>
                  <a:cubicBezTo>
                    <a:pt x="7115559" y="754856"/>
                    <a:pt x="4808128" y="1490663"/>
                    <a:pt x="3269841" y="1676400"/>
                  </a:cubicBezTo>
                  <a:cubicBezTo>
                    <a:pt x="1731554" y="1862137"/>
                    <a:pt x="686978" y="1412875"/>
                    <a:pt x="193266" y="1133475"/>
                  </a:cubicBezTo>
                  <a:cubicBezTo>
                    <a:pt x="-300446" y="854075"/>
                    <a:pt x="307566" y="0"/>
                    <a:pt x="307566" y="0"/>
                  </a:cubicBezTo>
                  <a:lnTo>
                    <a:pt x="307566" y="0"/>
                  </a:lnTo>
                </a:path>
              </a:pathLst>
            </a:custGeom>
            <a:noFill/>
            <a:ln w="25560">
              <a:solidFill>
                <a:srgbClr val="9bbb59"/>
              </a:solidFill>
              <a:round/>
              <a:tailEnd len="med" type="arrow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Dowolny kształt 39"/>
            <p:cNvSpPr/>
            <p:nvPr/>
          </p:nvSpPr>
          <p:spPr>
            <a:xfrm>
              <a:off x="4710240" y="4929480"/>
              <a:ext cx="2392200" cy="512640"/>
            </a:xfrm>
            <a:custGeom>
              <a:avLst/>
              <a:gdLst/>
              <a:ahLst/>
              <a:rect l="l" t="t" r="r" b="b"/>
              <a:pathLst>
                <a:path w="2771775" h="571506">
                  <a:moveTo>
                    <a:pt x="0" y="9525"/>
                  </a:moveTo>
                  <a:cubicBezTo>
                    <a:pt x="640556" y="291306"/>
                    <a:pt x="1281113" y="573087"/>
                    <a:pt x="1743075" y="571500"/>
                  </a:cubicBezTo>
                  <a:cubicBezTo>
                    <a:pt x="2205037" y="569913"/>
                    <a:pt x="2488406" y="284956"/>
                    <a:pt x="2771775" y="0"/>
                  </a:cubicBezTo>
                </a:path>
              </a:pathLst>
            </a:custGeom>
            <a:noFill/>
            <a:ln w="25560">
              <a:solidFill>
                <a:srgbClr val="385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ipsa 40"/>
            <p:cNvSpPr/>
            <p:nvPr/>
          </p:nvSpPr>
          <p:spPr>
            <a:xfrm>
              <a:off x="723600" y="48546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Elipsa 41"/>
            <p:cNvSpPr/>
            <p:nvPr/>
          </p:nvSpPr>
          <p:spPr>
            <a:xfrm>
              <a:off x="385200" y="48546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ipsa 42"/>
            <p:cNvSpPr/>
            <p:nvPr/>
          </p:nvSpPr>
          <p:spPr>
            <a:xfrm>
              <a:off x="6822000" y="48546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Elipsa 43"/>
            <p:cNvSpPr/>
            <p:nvPr/>
          </p:nvSpPr>
          <p:spPr>
            <a:xfrm>
              <a:off x="2742840" y="48330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ynik ekonomiczny firm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 wynik ekonomiczny firmy mają wpływ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niższe wskaźni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eżąca zyskowność firmy = zysk nett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z ostatniej rundy) / liczba udział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kaźnik zadłużenia firmy = całkowite zadłużenie / wartość fir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rtość udziału = wartość firmy / liczba udział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artość udziału 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artość udziału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a bezpośrednio z wartości majątku, któr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pracowaliście od początku gry zarządzając swoim hotel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rtości wybudowanych poko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rtości wyposażenia poko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datkowych inwestycj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np. pralnia ekologiczna, panele słoneczne, podjazd dla niepełnosprawnych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iadanej aktualnie gotówk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na rachunku i na lokatach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Współczynnik satysfakcji interesariuszy</a:t>
            </a:r>
            <a:r>
              <a:rPr b="1" lang="pl-PL" sz="4000" spc="-1" strike="noStrike">
                <a:solidFill>
                  <a:srgbClr val="376092"/>
                </a:solidFill>
                <a:latin typeface="Arial"/>
              </a:rPr>
              <a:t> - klient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atysfakcja klienta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st uzależniona od jakości obsługi (pracownicy obsługi powinni być dobrze opłacani), standardu wyposażenia, usług oferowanych gościom hotelowym oraz ekologiczności i społecznej odpowiedzialności Waszego biznes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eżeli dobrze to rozegracie, to poprawicie swoje miejsce w ranking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D:\Data\awinniczuk\AppData\Local\Microsoft\Windows\Temporary Internet Files\Content.IE5\KGROFAG8\dglxasset[1].aspx"/>
          <p:cNvPicPr/>
          <p:nvPr/>
        </p:nvPicPr>
        <p:blipFill>
          <a:blip r:embed="rId1"/>
          <a:stretch/>
        </p:blipFill>
        <p:spPr>
          <a:xfrm>
            <a:off x="6516720" y="4869000"/>
            <a:ext cx="22320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Arial"/>
              </a:rPr>
              <a:t>Współczynnik satysfakcji interesariuszy - pracownik</a:t>
            </a:r>
            <a:endParaRPr b="1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atysfakcja pracowników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st uzależniona od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okości wynagrodzenia oraz premi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y zatrudnien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ości obowiązków przypadających na pracownik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ci szkoleń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ości zarządza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uduj pozytywne relacje z pracownikami pamiętając o związanych z nimi koszta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D:\Data\awinniczuk\AppData\Local\Microsoft\Windows\Temporary Internet Files\Content.IE5\4VQMB90G\MC900423171[1].wmf"/>
          <p:cNvPicPr/>
          <p:nvPr/>
        </p:nvPicPr>
        <p:blipFill>
          <a:blip r:embed="rId1"/>
          <a:stretch/>
        </p:blipFill>
        <p:spPr>
          <a:xfrm>
            <a:off x="7740720" y="5157720"/>
            <a:ext cx="91440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376092"/>
                </a:solidFill>
                <a:latin typeface="Calibri"/>
              </a:rPr>
              <a:t>Współczynnik zrównoważonego rozwoju</a:t>
            </a:r>
            <a:endParaRPr b="1" lang="en-US" sz="5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bając o ten wskaźnik pokazujecie, że jesteście dobrym pracodawc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ganizacją, której nie jest obojętne najbliższe otocze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środowisko natura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ktywne działania w tych obszarach podnoszą Waszą pozycję w ranking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D:\Data\awinniczuk\AppData\Local\Microsoft\Windows\Temporary Internet Files\Content.IE5\KRKMH3WR\MC900389762[1].wmf"/>
          <p:cNvPicPr/>
          <p:nvPr/>
        </p:nvPicPr>
        <p:blipFill>
          <a:blip r:embed="rId1"/>
          <a:stretch/>
        </p:blipFill>
        <p:spPr>
          <a:xfrm>
            <a:off x="755640" y="4508640"/>
            <a:ext cx="18194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Marcin Wardaszko</cp:lastModifiedBy>
  <dcterms:modified xsi:type="dcterms:W3CDTF">2014-04-26T08:57:47Z</dcterms:modified>
  <cp:revision>27</cp:revision>
  <dc:subject/>
  <dc:title>Slajd 1</dc:title>
</cp:coreProperties>
</file>